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A12FD-2F8A-422E-BE33-1B13D7A5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8630B-6595-4806-B530-CA229972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D4170-29C5-425C-94C5-F7C6EF641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A68EF-7300-47F5-B2FA-F98666B7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3C2C9-7682-4562-A8D4-B2061958E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847CF-C6B4-4633-9426-4C52E6E0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323CB-7456-4613-9B12-CEA336AF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1ADB-6A39-455E-9AAE-665E67FA6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CCBAC-9B8E-430F-A2DE-E3E09C2A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538FB-B06B-48E4-A542-5C3CFB4B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8F7A-76EA-46F5-A9D7-4AAAC89F0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FFD20-DAC7-4D94-8FA3-FCB201BB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7180E-14C9-4462-A9B1-8CE2FC52C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10C95-EC0F-41D1-ADB4-99A59D83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D4FE1-B908-4E55-91FB-4C6CE6635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4E92C-5045-45D8-B98D-1D963935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51F48-040B-46D9-9465-93CDB02F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CCE6E-47AD-47C9-9E54-AA4DD79FD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EF9A8-4BBE-451B-B7A0-E546A9229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B867C-225F-457E-98AB-67A42074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D1A11-E6D6-483D-A40E-52DDF870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63ACD-8E96-409E-A826-D7DFE16A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3DF3D-9549-42DD-89BF-8D2E0E672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D5FB1-C719-47F9-B57F-63A117C8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F6D4C-5935-453F-87A2-ED21BBDD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8DBAC-1BFE-4D82-8446-312582645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0CE35-8E14-4571-8CD9-451E68E5A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9795D-538A-41BE-A9C2-357D38A7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29B02-4D97-41B7-842C-6ACCB1411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4D26D-E6F3-4DFD-BE2A-92CF8F77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1DCC3-087C-4B14-AB64-BF775F0A0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68EFF-676F-4D23-946D-2C595E04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016B0-A64F-4AB7-837B-065B7E2C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BBFB6-F75F-4517-9392-D6E73A3CB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FC6A4-1918-4797-BBD9-B1839339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8A474-E771-4FF9-842B-9F30C78B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B61C-6F44-4594-B9E4-7AEA41601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A455-3C11-4DE0-9EAF-46F15BEAA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B4E2-6B6E-4E7B-933B-0916E8130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4F43-2AB6-4932-A681-F91C5F957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BB61-95BD-46C5-A9AE-DE70722FE6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D4D2-F10E-4872-8C01-B5EA39E2D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203B-4AC3-4A33-BD31-6DA4E4A386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71B0-DF60-4DC0-A079-04446B5F1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6DDD-66EE-460B-921A-5802848CB1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8E5B-ED51-47F2-93A3-EFAB67AC70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DE2B-9559-40F6-8D16-674F09CA7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44D0-AF3A-4F67-B7AA-1817D03C9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3C9E-0728-43FB-8643-B0D6BA9A40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3F5C-50E5-4A31-A745-28E09D8F0B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A209-7EF0-4C14-81CB-3C52C7C6A4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8704-1519-46BC-948F-A183E8FE69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BDDD-5F9B-4483-938B-CDFBEA443D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6DB-18C5-4BE2-B52B-CB87D46E89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B48-3DA2-4D80-97F3-54FBA2D368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EF7-1CD0-473E-93B8-DB12426C58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F36-FDC2-45B5-8DAD-4DE532E2B3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F9A-7CBC-4757-A749-929AED5FB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2520-0086-49F7-B378-B472B96F00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318-5625-4C14-A3BA-B0B0D8CD65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6D7-1C8B-4DD2-983E-B77240BDF7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B89-7087-49C8-9CAE-E92C626B8F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BF8-FEE1-44C6-8538-47DBD56B71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2E6-B9E2-41E7-9FF9-B3089772E4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998-7D35-4F7C-A1CA-407B652886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CC6-C17B-4A5C-8455-DD69946193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41A52-E170-49A9-B27B-DBFFE2BB1F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A4D32-5EED-45C9-A7A9-F683B0754C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CE529-F7FB-444D-8035-FA0B91803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928A-D10C-4AA6-8F6B-54E6EC6D4F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28D7D-1C47-45BF-BC36-6465AFD76B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F801-5FBE-45CF-841C-E6AF115F27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5B682-D332-47E9-BF16-5EFCD58109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98CF4-0AD9-46C1-945D-C492136E81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B08D1-5933-4652-BCE3-32C737A319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55F8A-7710-4CA1-96E3-D690866712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16160-1FF2-46C8-8E57-3A2E3EC911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A1B8E-BA15-4AB9-97B7-E16E561D7F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DC5D9-EFBA-450F-8C40-706980EA2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80C1-C249-4296-A24A-0FCFB5B28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FBF5-E6E0-4A39-B98B-9B975737C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B124-52F7-4463-A7FE-869710CDB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59BB-5451-4CB5-9B77-6FA4F5901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84F2-467A-4825-A400-9F10527A6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21A1D-CC16-48DA-A1EA-5D38E5AA67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88C0-1636-4E2E-999B-DAF1CC5B6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DF27E-4FE8-454E-9067-8B56564CC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B6B1-49BD-4FEA-97FE-4FF40D50B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he third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inth u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REHABILITATION OF PATIENTS WITH THE LESION OF PERIPHERAL MOTOR NEU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The nervus facialis is the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VII cranial nerve which provides motor innervation of the mimic musculature 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arasympatetic innervation of the lacrimal, submandibular and sublingual glands, while providing gustative perception from the anterior two-thirds of tongue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Its motor nucleus is located in the pons and on its exit from the brainstem it passes through the pontocerebellar angle, enters the bone canal (canalis nervi facialis-Fallopian canal) in the petrous bone and exits through the stylomastoid foramen under the ear, after which it branches and innervates the facial muscles (mimic musculature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facial nerve lesions, regardless of the level, starting from the motor cells located in the motor nucleus in the pons to its ending branches, lead to peripheral facial pal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peripheral facialis”, “prosopoplegia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Bell's facial pal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5720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ten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ld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pecial sensitivity to coo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sure of the face to the co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“draught” near the open window of a car or train, wind blow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hich leads to the sudden asymptomatic palsy of the mimic musculature on one side of the face and is cal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LL'S FACIAL PALSY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paralysis a frig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55640" y="993600"/>
            <a:ext cx="8077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criteria for diagnosing Bell's facial pals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re as fol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dden beginning of one-sided paresys or palsy of the facial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ck of signs of the CNS da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bscence of the middle ear dise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r the posterior cranial fossa disease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torhinolaryngologist and neurolog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pection reveal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cial assymet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 result o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lsy of one half of the facial mimic mus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alf of the forehead is without wrink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eyebrow is low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nasolabial fold is fl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t side of the mouth dr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76360" y="191628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edicamentous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53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457200" y="2779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40320" cy="33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908600" y="2660760"/>
            <a:ext cx="42354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908600" y="2433600"/>
            <a:ext cx="40068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Upper extrem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Axillary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aesio nervi axillaris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 deltoideus, which is clinically manifested by inability to elevate the a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aise) above th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shoul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Musculocutaneous nerve injur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aesio nervi musculo-cutanei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bice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rachii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upi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rotate face-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 ar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dial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esio nervi radiali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ads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s exten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of the lower-arm, hand and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traight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-arm, hand and fingers and gives a clinical picture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wrist dro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dianus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media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 be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the hand and first three finger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 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hand and the first three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Benediction sign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nar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ulnar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small muscles of the hand and flexors of the ring and little finger, 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end) the ring and little finger, and weak finger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claw hand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erone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sio nervi peronealis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dorsal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oss of dorsal flex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nd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of the foot and toes and inability to do heel-walk on the affected foot, and gives a clinical picture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drop foo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The patient is unable to hold the foot up, and thus raises the thigh up while walking to decrease the risk of tripping, and the toes hit the ground first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cock-walk  gai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 posterior tibi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io nervi tibialis posteri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plantar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ack of plantar flexion of the foot and toes and inability to do toe-walk on the affected fo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During a stance phase of the affected leg, the limb support is on the heel first and the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omes the toe-dr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eaving the foot flat on the groun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steppage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gai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ANATOMOPHYS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conducts the stimuli from the periphery to the central nervous system and vice vers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inv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keletomotor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еfferent fi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ensory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аfferent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Vegetative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ympaticus and parasympati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GENERAL PRINCIPLES OF PHYSICAL THERAPY FOR PERIPHERAL NERVE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08120" indent="-708120" algn="just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Unlike the central motor neurons, the peripheral nerve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re capable of re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120" indent="-708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nabling thus the functional reco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c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ke various amount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pending o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level of lesion an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gree of damag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timely and adequate medicamentous and physical treatment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0" y="2779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hysical therapy  – tasks and ai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To provide optimal conditions for the tissue regeneration an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aintain the effectors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muscles) until the nerve regenera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For the purpose of achieving maximum possibl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function recover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f recov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21932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movement disord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araly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recovery of the damaged nerve func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paresys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permanent sequels of pals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Physical 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 very important component in the process of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estoring functioning of the patients with peripheral motor neuron dis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he treatment of PMN lesion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ncludes almost all physical procedure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but the following trias is most importan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Kinesitherapy</a:t>
            </a:r>
            <a:r>
              <a:rPr b="1" lang="sr-Latn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Longitudinal galvanization along the nerve projection and ЕS with exponential current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324160" y="217800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Technique of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96960" y="2529000"/>
            <a:ext cx="3558960" cy="266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ipolar and monopola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6244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Parameters for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meters for electrostimulation are determined according to Manual Muscle Testing Grading Syste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approximate impulse and pause duration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pending on the grade of peripheral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r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( 500-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0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oderat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(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ild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( 50-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musc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---( 0,1- 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2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500/2000,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0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50/500, 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+ 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according to MM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51460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0”, “1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ssisted(“2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3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resisted (“4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06668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ETIOLOGY OF THE PMN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f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virus herpes zoster, virus hepatita, polyo viru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etc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alcoho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arbon-monoxide, parathion, carbon-disulfi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heavy metal poisoning, botulism, toxin dyphteria, drug poisoning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uremia, porphyria, amyloidosi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ribe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coholism, hyper and hypothyreoidism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um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benign and malignant tumo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spondylophyt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and osteophy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raumatic 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Sec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raumatic sec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ith a sharp knife or sharp bone fragment in a bone fra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Favourable effect of exercising in water is mainly based on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ording to Archimedes’ principle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bject immersed in a fluid experiences an apparent weight loss equal to the weight of the fluid displaced, and also a decreased impact of gravity, which helps muscles, whose strength is insufficient for performing land movements, to easily perform exercises in water. water temperature reduces muscle spasm and improves circul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scle weakness, greater efficacy in exercise has a beneficial psychological eff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67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Dosed training load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Progressive increase and decrease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scending and descending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escendo and decresc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335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xford exerci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re determined once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De-Lorme meth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Progressive resistance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exercis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are determined once 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Sensory re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0" y="1295280"/>
            <a:ext cx="8915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the palsy of the peripheral nerves which have abundant sensory innerva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the lesion of the N. medianus, due to axonal disruption, which is almost inevitable occurrence in the lesion of the N. medianus, such as a neurotmesis injury, there occurs wrong reinnervation of the receptors, which is accompani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tereogn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inability to identify the shape, size, weight and type of the material which is placed in the patient's hand, in the absence of visual stimul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ereognosis 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manual exploration of differen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shapes, sizes, weights and textures of the 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first three fingers of the corresponding hand (the skin of other fingers is protected with a glove) without using one's visu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ORTH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revent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wel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ures an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stretching of the paralyz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s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COVERY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alvanic curr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galvani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hydroelectric) bath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rug electrophor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asodilat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Аnalge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ernard'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DDC)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nential 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F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analgetic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5720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node galv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Electroforesis of Novo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uc's current "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Ultra-Rei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" or Ultrastimulation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currents (by Trabert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VELS OF DAM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SION L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752480" y="2666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egment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radicular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GRAD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DEGREE OF NERV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prax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erve cont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transi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order of the nerve function caused by effect of 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Axonotm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xon disru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pathoanatomical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injury of the axons and their myelin sheat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ereby Schwann's sheaths are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ubu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mainly undisturbed, which is the reason for considering axonotmes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nerve lesion “in continuity“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tme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mplete nerve disrup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ost severe form of an injury, whereby its distal segment is subject to Wallerian degene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94284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IAGNOSING THE LESIONS OF THE PERIPHER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258920" y="2205000"/>
            <a:ext cx="6477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mputerized tomography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M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clear magnetic reson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MYEL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LECTROMY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Clinical examination of the motor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2286000" y="2286000"/>
            <a:ext cx="548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Refle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0" r="22589" b="0"/>
          <a:stretch/>
        </p:blipFill>
        <p:spPr>
          <a:xfrm>
            <a:off x="4038480" y="1752480"/>
            <a:ext cx="182880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277920"/>
            <a:ext cx="815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nual muscle test (MMT) for evaluation of muscl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5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4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7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“3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5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2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2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1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0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5"   - maintained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1, 2, 3, 4   - paresys or partial muscle strength or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0" -  paralysis or complete loss of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Nada Miklja</cp:lastModifiedBy>
  <dcterms:modified xsi:type="dcterms:W3CDTF">2023-09-27T08:32:24Z</dcterms:modified>
  <cp:revision>44</cp:revision>
  <dc:subject/>
  <dc:title>Introduction To Manual Muscle Testing</dc:title>
</cp:coreProperties>
</file>